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7F0-D0E4-4C70-BEC3-3DE1A704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772C-C6C2-4D12-9404-03B0D658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8192-7FA5-4589-897D-5BAF96AE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7F3-C7C8-4197-B93E-55298C47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C001-E765-4366-B024-14674561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2158-CEB7-4CD3-ACFD-37F6450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5170-106D-40CE-9D77-7AF02EA1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5C5A-898B-42CC-91FC-C119BF07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C5F5-A4B9-4479-985A-FAA5A5F2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CC03-E33A-499C-B580-B5988222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5744-3E2E-4464-B8B4-AD4850A5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9023-B673-4393-9F89-A89DD821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EB4B-B613-42CD-8646-07C07593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A7AA-0E45-4124-BE14-666B7665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E3DE-3CD0-43DE-879A-BCC6FF4C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115D-0B55-49F3-84E4-60CEC670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52F-DBF9-453C-93E8-22018058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650F-8EDE-45CA-8928-58C3FA19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E59CD-39CD-49A8-8E1C-4058D708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4F97-1A1D-4995-ABF7-56B38823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3253-1945-4162-A6C1-BEFA317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3022-FB6E-4201-B82B-CEB98241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B7F-937B-4AB8-9AD7-B1BC3353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9BC0-1ACB-49AF-9E0A-A8BFBA3E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E5495-E842-44C9-9ED9-435C2772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019C0-D703-4D1A-9CB3-BD598ACB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AD98-EA14-470E-8613-DE5AF699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04E3D-8195-4470-9DCF-51034433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BEFE-899C-46B6-9E18-25DB9D36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47373-DAF9-45D8-A108-5C1FA865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33CC-5E82-4EDA-95CA-F398AA0F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9F055-92DA-47CD-811E-191F8E6E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7236-6301-4BCA-9804-41395DCB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4A7-47D0-4306-A5D9-45FA88B5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E915B-27C7-4B70-B080-511E37F1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C54F-8017-478F-9C51-46CA48D7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D1F9-E30A-49EB-8D0E-977899B5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17030-D644-4A0E-9FBD-799E008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B9574-093E-4ED9-98C6-B3E29E63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0CC1E-2F5F-4A43-9BB7-E39699B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74A6-C3CC-4774-A237-5628C22D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ED28-7A1A-4E8D-A5AA-E75285F7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F1D5-E590-4623-9CE2-CC6598B7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8F9B-CFF0-4BC6-8E01-18924B18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B61-F07F-4EF8-ADD3-7161199E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9F09-280E-4B71-8EF5-8E70C0A1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3370-7A73-4C6B-AE7F-B099E94D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B77E7-F118-4BE8-BB60-54F38921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5473-CDAE-41CC-B0FB-431343DF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0EBBE-E213-4ECE-9EA7-FAF2E275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9B50C-49D0-403F-AE48-0F95A111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23189-DDF2-4D65-9560-4277C24B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8799-08DD-45D0-9235-3FF097F1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ECC2F-887F-4F76-B1F1-55318A08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DBA5-1E90-4914-B3B6-E6352301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8B5-8DE6-4EDB-A473-029D4B63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852D-5F5B-4F67-AEBA-D378DA8B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E373A-C403-4200-BD6B-77D55B3B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6CAF2-B857-4A8E-A15D-CDDC299B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6A53-AD7A-4443-A4AB-92071D9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805D4-6031-4471-BDB0-F7D73347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DAE2E-F4B0-41FC-9A2B-0136608D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E4F8E-2478-45EE-B95A-F7E93BFE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AF694-EEC7-428A-8FDD-9AB77AFE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1121B-A34D-43B5-9F59-A2F72AE3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1398E-F5FD-4B04-8F70-12647FDC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D7D-6C7D-42F8-A9A2-9B6DFFC6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A01CC-E6E5-4CAC-8DE1-235C3988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C3E1C-7E3E-47B2-91CA-37D9B371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5FAE7-D449-4A55-97D7-A1CEA8D4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6810B-4B9B-4622-AA1B-D7C358D8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AB6A3-7C0A-4D24-B097-BE7E137D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165BC-09ED-4F17-A7E6-6D9B5814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48AC1-6CA2-43CF-84DD-3AAB8C26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35149-F967-4F01-94FA-CF1BA0FD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3104D-3492-4647-88C5-1EDF9FD2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92C5-CD4A-410E-9722-E9722D1D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A16-EB33-4506-80AA-014C1EFB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89251-97B8-47D2-AEEA-D3A2AB87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8DA40-8025-4321-ADA0-D6341E32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332FE-664F-49CF-BC87-66CFB40F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4174C-2C1B-43A0-A037-B8B8167E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9D861-6D5A-44DE-BFA2-1443E978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B88-4736-4D50-BF74-8A65A91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8F17-AD62-4FD0-BE22-9BAA6875C28F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Шишлянникова Е.В. гимназия №8 г. Дуб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B11A-E032-41D1-A15A-00EE5306AB0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AA62-9A22-493F-8C9C-78CEB911B37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Шишлянникова Е.В. гимназия №8 г. Дуб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98F6-9AA5-485C-A6AD-AC91F1B2D25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51D7-C7AE-47E1-8E76-D45802A86219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Шишлянникова Е.В. гимназия №8 г. Дуб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A2EC-91E2-47C5-B738-299FBE29874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B805-3B37-4806-A078-C453C5CD5DAA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Шишлянникова Е.В. гимназия №8 г. Дуб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BDC2-FEDD-4953-9702-3F8B585400D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AD06-5DBA-408A-BF15-D259BD92A0D9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Шишлянникова Е.В. гимназия №8 г. Дуб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5EA7-5369-4E76-BC76-B2EF8E996B7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BD4D-0FC6-4D12-B1E2-7BDC7FE48F59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Шишлянникова Е.В. гимназия №8 г. Дуб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D81-652D-4C3D-811A-FE71053520A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EDAE-4B2E-4AAF-AAB2-752D269F041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Шишлянникова Е.В. гимназия №8 г. Дуб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6B06-39BC-4D80-870B-5005FD9C418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5105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Corbel"/>
              </a:rPr>
              <a:t>Техника-графика</a:t>
            </a:r>
            <a:endParaRPr b="0" lang="en-US" sz="4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ccedb1"/>
                </a:solidFill>
                <a:latin typeface="Corbel"/>
              </a:rPr>
              <a:t>Урок изобразительного искусства 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00"/>
                </a:solidFill>
                <a:latin typeface="Corbel"/>
              </a:rPr>
              <a:t>6 класс</a:t>
            </a: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69" name="Полилиния 5" descr=""/>
          <p:cNvPicPr/>
          <p:nvPr/>
        </p:nvPicPr>
        <p:blipFill>
          <a:blip r:embed="rId1"/>
          <a:stretch/>
        </p:blipFill>
        <p:spPr>
          <a:xfrm>
            <a:off x="444600" y="92160"/>
            <a:ext cx="8327880" cy="149868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граф5.JPG"/>
          <p:cNvPicPr/>
          <p:nvPr/>
        </p:nvPicPr>
        <p:blipFill>
          <a:blip r:embed="rId2"/>
          <a:stretch/>
        </p:blipFill>
        <p:spPr>
          <a:xfrm>
            <a:off x="5562720" y="2133720"/>
            <a:ext cx="3276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eeff"/>
                </a:solidFill>
                <a:latin typeface="Consolas"/>
              </a:rPr>
              <a:t>Какие средства выразительности мы используем, работая в графике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Рисунок 3" descr="2007_06230029.JPG"/>
          <p:cNvPicPr/>
          <p:nvPr/>
        </p:nvPicPr>
        <p:blipFill>
          <a:blip r:embed="rId1"/>
          <a:stretch/>
        </p:blipFill>
        <p:spPr>
          <a:xfrm>
            <a:off x="5415120" y="990720"/>
            <a:ext cx="3447720" cy="4392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228240" y="2634840"/>
            <a:ext cx="52578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orbel"/>
              </a:rPr>
              <a:t>Линия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orbel"/>
              </a:rPr>
              <a:t>Пятно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orbel"/>
              </a:rPr>
              <a:t>Штрих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orbel"/>
              </a:rPr>
              <a:t>Контур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4f0e4"/>
                </a:solidFill>
                <a:latin typeface="Corbel"/>
              </a:rPr>
              <a:t>Цвет</a:t>
            </a: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 является в графике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дополнительным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средством, но тоже играет свою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роль (например, цвет фона, ил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цвет выбранного графического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Corbel"/>
              </a:rPr>
              <a:t>Средства)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Посмотрите графические работы ребят «Фантастическое дерево».</a:t>
            </a:r>
            <a:br>
              <a:rPr sz="2000"/>
            </a:b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Обратите внимание как влияет цвет фона на созданный образ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Содержимое 3" descr="2007_1110НаташаСестра0031.JPG"/>
          <p:cNvPicPr/>
          <p:nvPr/>
        </p:nvPicPr>
        <p:blipFill>
          <a:blip r:embed="rId1"/>
          <a:stretch/>
        </p:blipFill>
        <p:spPr>
          <a:xfrm>
            <a:off x="969840" y="201456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396" name="Содержимое 3" descr="2007_1110НаташаСестра0032.JPG"/>
          <p:cNvPicPr/>
          <p:nvPr/>
        </p:nvPicPr>
        <p:blipFill>
          <a:blip r:embed="rId2"/>
          <a:stretch/>
        </p:blipFill>
        <p:spPr>
          <a:xfrm>
            <a:off x="475776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397" name="Нижний колонтитул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Содержимое 3" descr="2007_1110НаташаСестра0037.JPG"/>
          <p:cNvPicPr/>
          <p:nvPr/>
        </p:nvPicPr>
        <p:blipFill>
          <a:blip r:embed="rId3"/>
          <a:stretch/>
        </p:blipFill>
        <p:spPr>
          <a:xfrm>
            <a:off x="838080" y="1450800"/>
            <a:ext cx="3397320" cy="4548240"/>
          </a:xfrm>
          <a:prstGeom prst="rect">
            <a:avLst/>
          </a:prstGeom>
          <a:ln w="0">
            <a:noFill/>
          </a:ln>
        </p:spPr>
      </p:pic>
      <p:pic>
        <p:nvPicPr>
          <p:cNvPr id="399" name="Содержимое 3" descr="2007_1110НаташаСестра0050.JPG"/>
          <p:cNvPicPr/>
          <p:nvPr/>
        </p:nvPicPr>
        <p:blipFill>
          <a:blip r:embed="rId4"/>
          <a:stretch/>
        </p:blipFill>
        <p:spPr>
          <a:xfrm>
            <a:off x="4800600" y="1370160"/>
            <a:ext cx="3429000" cy="4573440"/>
          </a:xfrm>
          <a:prstGeom prst="rect">
            <a:avLst/>
          </a:prstGeom>
          <a:ln w="0">
            <a:noFill/>
          </a:ln>
        </p:spPr>
      </p:pic>
      <p:pic>
        <p:nvPicPr>
          <p:cNvPr id="400" name="Содержимое 3" descr="2007_1110НаташаСестра0034.JPG"/>
          <p:cNvPicPr/>
          <p:nvPr/>
        </p:nvPicPr>
        <p:blipFill>
          <a:blip r:embed="rId5"/>
          <a:stretch/>
        </p:blipFill>
        <p:spPr>
          <a:xfrm>
            <a:off x="533520" y="1523880"/>
            <a:ext cx="3657600" cy="492444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3" descr="2007_1110НаташаСестра0058.JPG"/>
          <p:cNvPicPr/>
          <p:nvPr/>
        </p:nvPicPr>
        <p:blipFill>
          <a:blip r:embed="rId6"/>
          <a:stretch/>
        </p:blipFill>
        <p:spPr>
          <a:xfrm>
            <a:off x="4759200" y="1417680"/>
            <a:ext cx="3622680" cy="4830840"/>
          </a:xfrm>
          <a:prstGeom prst="rect">
            <a:avLst/>
          </a:prstGeom>
          <a:ln w="0">
            <a:noFill/>
          </a:ln>
        </p:spPr>
      </p:pic>
      <p:pic>
        <p:nvPicPr>
          <p:cNvPr id="402" name="Содержимое 3" descr="2007_1110НаташаСестра0039.JPG"/>
          <p:cNvPicPr/>
          <p:nvPr/>
        </p:nvPicPr>
        <p:blipFill>
          <a:blip r:embed="rId7"/>
          <a:stretch/>
        </p:blipFill>
        <p:spPr>
          <a:xfrm>
            <a:off x="533520" y="1447920"/>
            <a:ext cx="3657600" cy="4911480"/>
          </a:xfrm>
          <a:prstGeom prst="rect">
            <a:avLst/>
          </a:prstGeom>
          <a:ln w="0">
            <a:noFill/>
          </a:ln>
        </p:spPr>
      </p:pic>
      <p:pic>
        <p:nvPicPr>
          <p:cNvPr id="403" name="Содержимое 3" descr="2007_1110НаташаСестра0038.JPG"/>
          <p:cNvPicPr/>
          <p:nvPr/>
        </p:nvPicPr>
        <p:blipFill>
          <a:blip r:embed="rId8"/>
          <a:stretch/>
        </p:blipFill>
        <p:spPr>
          <a:xfrm>
            <a:off x="4724280" y="1346040"/>
            <a:ext cx="37339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Нижний колонтитул 5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6ecff"/>
                </a:solidFill>
                <a:latin typeface="Corbel"/>
              </a:rPr>
              <a:t>Такранова Т.В. Село Тоцкое Втор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599840" y="2362320"/>
            <a:ext cx="6227640" cy="29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5720" indent="-443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здать  графический образ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фантастического цветк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5720" indent="-443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уем тонированный лист и графические средства изображения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95720" indent="-44316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спользуем  пятно, линию, штриховку различного характер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2057040" y="762120"/>
            <a:ext cx="35082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аша задача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512280"/>
            <a:ext cx="77724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ы продолжаем работать в технике графика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2" name="Picture 2" descr="D:\7-8 кл\Графика\фотографии 032.jpg"/>
          <p:cNvPicPr/>
          <p:nvPr/>
        </p:nvPicPr>
        <p:blipFill>
          <a:blip r:embed="rId1"/>
          <a:stretch/>
        </p:blipFill>
        <p:spPr>
          <a:xfrm>
            <a:off x="1371600" y="2971800"/>
            <a:ext cx="6248520" cy="36831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1167840" y="2209680"/>
            <a:ext cx="48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ы выполняли различные упраж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 графической технике гелиевой руч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512280"/>
            <a:ext cx="84582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1eeff"/>
                </a:solidFill>
                <a:latin typeface="Consolas"/>
              </a:rPr>
              <a:t>Работали тушью и кистью над графической абстрактной композицией</a:t>
            </a:r>
            <a:endParaRPr b="0" lang="en-US" sz="2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Содержимое 11" descr="2007_1110НаташаСестра0103.JPG"/>
          <p:cNvPicPr/>
          <p:nvPr/>
        </p:nvPicPr>
        <p:blipFill>
          <a:blip r:embed="rId1"/>
          <a:stretch/>
        </p:blipFill>
        <p:spPr>
          <a:xfrm>
            <a:off x="1407960" y="4705200"/>
            <a:ext cx="2511720" cy="19400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2" descr="2007_1110НаташаСестра0059.JPG"/>
          <p:cNvPicPr/>
          <p:nvPr/>
        </p:nvPicPr>
        <p:blipFill>
          <a:blip r:embed="rId2"/>
          <a:stretch/>
        </p:blipFill>
        <p:spPr>
          <a:xfrm>
            <a:off x="115920" y="1200240"/>
            <a:ext cx="4267080" cy="325584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13" descr="2007_1110НаташаСестра0042.JPG"/>
          <p:cNvPicPr/>
          <p:nvPr/>
        </p:nvPicPr>
        <p:blipFill>
          <a:blip r:embed="rId3"/>
          <a:stretch/>
        </p:blipFill>
        <p:spPr>
          <a:xfrm>
            <a:off x="4608360" y="1200240"/>
            <a:ext cx="4218120" cy="32194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4" descr="2007_1110НаташаСестра0052.JPG"/>
          <p:cNvPicPr/>
          <p:nvPr/>
        </p:nvPicPr>
        <p:blipFill>
          <a:blip r:embed="rId4"/>
          <a:stretch/>
        </p:blipFill>
        <p:spPr>
          <a:xfrm>
            <a:off x="5827680" y="4627440"/>
            <a:ext cx="2444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4760" y="1770120"/>
            <a:ext cx="288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 помощью фантазии и графических приемов (линия, пятно, штрих) можно создать неповторимые образы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Содержимое 4" descr="граф3.JPG"/>
          <p:cNvPicPr/>
          <p:nvPr/>
        </p:nvPicPr>
        <p:blipFill>
          <a:blip r:embed="rId1"/>
          <a:stretch/>
        </p:blipFill>
        <p:spPr>
          <a:xfrm>
            <a:off x="3886200" y="68580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E:\КАТАЛОГИ -ПОСОБИЯ\Графика художников\граф7.JPG"/>
          <p:cNvPicPr/>
          <p:nvPr/>
        </p:nvPicPr>
        <p:blipFill>
          <a:blip r:embed="rId1"/>
          <a:stretch/>
        </p:blipFill>
        <p:spPr>
          <a:xfrm>
            <a:off x="304920" y="304920"/>
            <a:ext cx="4359240" cy="59436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5105520" y="837720"/>
            <a:ext cx="3581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мотрите, как с помощью простых графических средств можно создать  выразительный, милый  образ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3" descr="горбунек.JPG"/>
          <p:cNvPicPr/>
          <p:nvPr/>
        </p:nvPicPr>
        <p:blipFill>
          <a:blip r:embed="rId1"/>
          <a:stretch/>
        </p:blipFill>
        <p:spPr>
          <a:xfrm>
            <a:off x="228600" y="1066680"/>
            <a:ext cx="5562720" cy="45529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5867280" y="1828440"/>
            <a:ext cx="28958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аправление штрихов и направление линий создают определенный характер изображения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Иллюстрации художни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6" name="Содержимое 4" descr="гр3.JPG"/>
          <p:cNvPicPr/>
          <p:nvPr/>
        </p:nvPicPr>
        <p:blipFill>
          <a:blip r:embed="rId1"/>
          <a:stretch/>
        </p:blipFill>
        <p:spPr>
          <a:xfrm>
            <a:off x="380880" y="1447920"/>
            <a:ext cx="3768840" cy="5024160"/>
          </a:xfrm>
          <a:prstGeom prst="rect">
            <a:avLst/>
          </a:prstGeom>
          <a:ln w="0">
            <a:noFill/>
          </a:ln>
        </p:spPr>
      </p:pic>
      <p:pic>
        <p:nvPicPr>
          <p:cNvPr id="387" name="Содержимое 7" descr="граф8.JPG"/>
          <p:cNvPicPr/>
          <p:nvPr/>
        </p:nvPicPr>
        <p:blipFill>
          <a:blip r:embed="rId2"/>
          <a:stretch/>
        </p:blipFill>
        <p:spPr>
          <a:xfrm>
            <a:off x="4842000" y="1351080"/>
            <a:ext cx="3844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E:\КАТАЛОГИ -ПОСОБИЯ\Графика художников\графика1.JPG"/>
          <p:cNvPicPr/>
          <p:nvPr/>
        </p:nvPicPr>
        <p:blipFill>
          <a:blip r:embed="rId1"/>
          <a:stretch/>
        </p:blipFill>
        <p:spPr>
          <a:xfrm>
            <a:off x="838080" y="609480"/>
            <a:ext cx="7081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одержимое 4" descr="граф10.JPG"/>
          <p:cNvPicPr/>
          <p:nvPr/>
        </p:nvPicPr>
        <p:blipFill>
          <a:blip r:embed="rId1"/>
          <a:stretch/>
        </p:blipFill>
        <p:spPr>
          <a:xfrm>
            <a:off x="787320" y="177012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390" name="Содержимое 5" descr="графика-лес.JPG"/>
          <p:cNvPicPr/>
          <p:nvPr/>
        </p:nvPicPr>
        <p:blipFill>
          <a:blip r:embed="rId2"/>
          <a:stretch/>
        </p:blipFill>
        <p:spPr>
          <a:xfrm>
            <a:off x="4978440" y="177012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2:34:45Z</dcterms:created>
  <dc:creator>User</dc:creator>
  <dc:description/>
  <dc:language>en-US</dc:language>
  <cp:lastModifiedBy>Admin</cp:lastModifiedBy>
  <dcterms:modified xsi:type="dcterms:W3CDTF">2013-01-21T18:17:53Z</dcterms:modified>
  <cp:revision>44</cp:revision>
  <dc:subject/>
  <dc:title>Дерево-фантазия</dc:title>
</cp:coreProperties>
</file>